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373-151F-4381-B968-2429D498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4C5-15C6-4E82-B020-5BFDD372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3B8-34AD-4D4C-9924-14B1CB99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48C-4332-40A3-ACAF-03BD4B49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7B3A-8733-47A1-8A4D-E5122F18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0AD2-8D8A-4DC3-8992-E6F1E3B2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CFC1-70D0-453A-89E4-08AD45DE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E435-519C-40D8-8CAF-B7A92E07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E52A-82B6-48D7-8274-93355C3F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FCBC-0197-4CF2-AAC5-5D0144DB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9538-13DD-4043-B622-94E55839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74D-DA80-499D-9689-D35FD182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2C0B-4705-4B77-8040-01522E53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BF3B-2CF0-4C4B-AD9A-7E392BA9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3505-3604-4E25-8E39-04D100BA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2A99-95F0-42A1-B8BC-CF87311F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9FD0-2DEC-43A5-AA3B-3ED9B3CE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9A8-3B18-472E-B6B0-552BDF41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FB2-736A-42DA-9551-676F9ACA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510-5300-438E-8B00-E011B10D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7DC-00EF-4CC8-9BFD-8FE8A599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534-CD3B-4B0E-97FB-12237BAF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840-7EDB-4B21-B599-80E7E0F4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BF3-E6C4-4C68-98E1-A1F40438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307C-F3D6-4D1C-A197-E1F6344C2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1EA2-280E-4005-AE30-48E780186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cription and Transl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NA code  mRNA code  tRNA code                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981080"/>
          <a:ext cx="8229240" cy="411444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A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 – a molecule used to build living material, carry out chemical reactions, and fight dis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crip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RNA from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A stays in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NA takes the message from DNA and takes it into the cytoplasm to a ribos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5991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re are no “T’’s in R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-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60199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cribe-make R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A     A C G  A A T  A C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NA  U G C  U U A  U G 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A:     TAC  ACG  CTA  CGC  ATG  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NA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on- group of 3 nucleotides in m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 condon-group of 3 nucleotides in t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ranslation-translate message from mR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an amino acid chain (protein) from  RNA at ribos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tRNA (Transfer R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A           ACG AAT A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NA        UGC UUA U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NA          ACG AAU A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A.           Cys  Leu   C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sing the genetic code chart, translate the code below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NA ACG  AUA  GCA  A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3:44:57Z</dcterms:created>
  <dc:creator>Tera Linn</dc:creator>
  <dc:description/>
  <dc:language>en-US</dc:language>
  <cp:lastModifiedBy>Tera Linn</cp:lastModifiedBy>
  <dcterms:modified xsi:type="dcterms:W3CDTF">2009-04-01T14:21:15Z</dcterms:modified>
  <cp:revision>2</cp:revision>
  <dc:subject/>
  <dc:title>Transcription and Translation</dc:title>
</cp:coreProperties>
</file>